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9126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9126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9126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CF02-BECF-4AF5-96A0-2BBE3C855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9126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C9D3-A460-4EA5-ABB9-B731C943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9126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6FE2-B731-44C2-B81A-95872932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9126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1FBE-DD7B-46DC-AC53-DE876797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9126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721E-B970-44A9-9587-D4EBB884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240" y="912600"/>
            <a:ext cx="746748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C668-73F8-4F2A-A5A9-B05FFB35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9126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7143-364E-4554-911B-96EA66CE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9126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9126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AE04-4F95-44FC-8348-81B85032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9126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84CB-67AA-4551-BB91-DF2B89ED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9126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0C82-7EA1-481A-B567-C668A854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9126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A73D-75FD-4514-9B8B-F1706B9F1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9126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D799-D544-44D7-9479-DF7CCFDFB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9126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9126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9126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912600"/>
            <a:ext cx="746748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9126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9126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9126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9126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0099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77200">
              <a:lnSpc>
                <a:spcPct val="12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2280" indent="-221400">
              <a:lnSpc>
                <a:spcPct val="12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12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lnSpc>
                <a:spcPct val="12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92160" y="22320"/>
            <a:ext cx="78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ff"/>
                </a:solidFill>
                <a:latin typeface="隶书"/>
                <a:ea typeface="隶书"/>
              </a:rPr>
              <a:t>第</a:t>
            </a:r>
            <a:r>
              <a:rPr b="1" lang="zh-CN" sz="1800" spc="-1" strike="noStrike">
                <a:solidFill>
                  <a:srgbClr val="00ffff"/>
                </a:solidFill>
                <a:latin typeface="隶书"/>
                <a:ea typeface="隶书"/>
              </a:rPr>
              <a:t>2</a:t>
            </a:r>
            <a:r>
              <a:rPr b="1" lang="zh-CN" sz="1800" spc="-1" strike="noStrike">
                <a:solidFill>
                  <a:srgbClr val="00ffff"/>
                </a:solidFill>
                <a:latin typeface="隶书"/>
                <a:ea typeface="隶书"/>
              </a:rPr>
              <a:t>章  远动信息与编码的基本理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380880"/>
            <a:ext cx="4267080" cy="0"/>
          </a:xfrm>
          <a:prstGeom prst="line">
            <a:avLst/>
          </a:prstGeom>
          <a:ln w="38160">
            <a:solidFill>
              <a:srgbClr val="cc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1522080"/>
            <a:ext cx="62481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0099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6B4B-88F7-490B-9171-756164E957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11.xml"/><Relationship Id="rId8" Type="http://schemas.openxmlformats.org/officeDocument/2006/relationships/slide" Target="slide11.xml"/><Relationship Id="rId9" Type="http://schemas.openxmlformats.org/officeDocument/2006/relationships/slide" Target="slide11.xml"/><Relationship Id="rId10" Type="http://schemas.openxmlformats.org/officeDocument/2006/relationships/slide" Target="slide13.xml"/><Relationship Id="rId11" Type="http://schemas.openxmlformats.org/officeDocument/2006/relationships/slide" Target="slide13.xml"/><Relationship Id="rId12" Type="http://schemas.openxmlformats.org/officeDocument/2006/relationships/slide" Target="slide13.xml"/><Relationship Id="rId13" Type="http://schemas.openxmlformats.org/officeDocument/2006/relationships/slide" Target="slide20.xml"/><Relationship Id="rId14" Type="http://schemas.openxmlformats.org/officeDocument/2006/relationships/slide" Target="slide20.xml"/><Relationship Id="rId15" Type="http://schemas.openxmlformats.org/officeDocument/2006/relationships/slide" Target="slide20.xml"/><Relationship Id="rId16" Type="http://schemas.openxmlformats.org/officeDocument/2006/relationships/slide" Target="slide28.xml"/><Relationship Id="rId17" Type="http://schemas.openxmlformats.org/officeDocument/2006/relationships/slide" Target="slide28.xml"/><Relationship Id="rId18" Type="http://schemas.openxmlformats.org/officeDocument/2006/relationships/slide" Target="slide37.xml"/><Relationship Id="rId19" Type="http://schemas.openxmlformats.org/officeDocument/2006/relationships/slide" Target="slide37.xml"/><Relationship Id="rId20" Type="http://schemas.openxmlformats.org/officeDocument/2006/relationships/slide" Target="slide37.xml"/><Relationship Id="rId2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slide" Target="slide23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" Target="slide25.xml"/><Relationship Id="rId7" Type="http://schemas.openxmlformats.org/officeDocument/2006/relationships/slide" Target="slide27.xml"/><Relationship Id="rId8" Type="http://schemas.openxmlformats.org/officeDocument/2006/relationships/slide" Target="slide27.xml"/><Relationship Id="rId9" Type="http://schemas.openxmlformats.org/officeDocument/2006/relationships/slide" Target="slide27.xml"/><Relationship Id="rId1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31.xml"/><Relationship Id="rId4" Type="http://schemas.openxmlformats.org/officeDocument/2006/relationships/slide" Target="slide31.xml"/><Relationship Id="rId5" Type="http://schemas.openxmlformats.org/officeDocument/2006/relationships/slide" Target="slide31.xml"/><Relationship Id="rId6" Type="http://schemas.openxmlformats.org/officeDocument/2006/relationships/slide" Target="slide31.xml"/><Relationship Id="rId7" Type="http://schemas.openxmlformats.org/officeDocument/2006/relationships/slide" Target="slide31.xml"/><Relationship Id="rId8" Type="http://schemas.openxmlformats.org/officeDocument/2006/relationships/slide" Target="slide36.xml"/><Relationship Id="rId9" Type="http://schemas.openxmlformats.org/officeDocument/2006/relationships/slide" Target="slide36.xml"/><Relationship Id="rId10" Type="http://schemas.openxmlformats.org/officeDocument/2006/relationships/slide" Target="slide36.xml"/><Relationship Id="rId1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1.xml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" Target="slide39.xml"/><Relationship Id="rId4" Type="http://schemas.openxmlformats.org/officeDocument/2006/relationships/slide" Target="slide41.xml"/><Relationship Id="rId5" Type="http://schemas.openxmlformats.org/officeDocument/2006/relationships/slide" Target="slide41.xml"/><Relationship Id="rId6" Type="http://schemas.openxmlformats.org/officeDocument/2006/relationships/slide" Target="slide41.xml"/><Relationship Id="rId7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240" y="9126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黑体"/>
              </a:rPr>
              <a:t>第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Arial"/>
              </a:rPr>
              <a:t>2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黑体"/>
              </a:rPr>
              <a:t>章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Arial"/>
              </a:rPr>
              <a:t>  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黑体"/>
              </a:rPr>
              <a:t>远动信息与编码的基本理论</a:t>
            </a:r>
            <a:endParaRPr b="1" lang="en-US" sz="3200" spc="-1" strike="noStrike">
              <a:solidFill>
                <a:srgbClr val="0099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828800" y="1904760"/>
            <a:ext cx="6324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7c80"/>
                </a:solidFill>
                <a:uFillTx/>
                <a:latin typeface="Arial"/>
                <a:hlinkClick r:id="rId1" action="ppaction://hlinksldjump"/>
              </a:rPr>
              <a:t>2.1  </a:t>
            </a:r>
            <a:r>
              <a:rPr b="1" lang="zh-CN" sz="2800" spc="-1" strike="noStrike" u="sng">
                <a:solidFill>
                  <a:srgbClr val="ff7c80"/>
                </a:solidFill>
                <a:uFillTx/>
                <a:latin typeface="Times New Roman"/>
                <a:hlinkClick r:id="rId2" action="ppaction://hlinksldjump"/>
              </a:rPr>
              <a:t>数据传输系统的组成</a:t>
            </a:r>
            <a:r>
              <a:rPr b="1" lang="zh-CN" sz="2800" spc="-1" strike="noStrike" u="sng">
                <a:solidFill>
                  <a:srgbClr val="ff7c80"/>
                </a:solidFill>
                <a:uFillTx/>
                <a:latin typeface="Times New Roman"/>
                <a:hlinkClick r:id="rId3" action="ppaction://hlinksldjump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7c80"/>
                </a:solidFill>
                <a:uFillTx/>
                <a:latin typeface="Arial"/>
                <a:hlinkClick r:id="rId4" action="ppaction://hlinksldjump"/>
              </a:rPr>
              <a:t>2.2  </a:t>
            </a:r>
            <a:r>
              <a:rPr b="1" lang="zh-CN" sz="2800" spc="-1" strike="noStrike" u="sng">
                <a:solidFill>
                  <a:srgbClr val="ff7c80"/>
                </a:solidFill>
                <a:uFillTx/>
                <a:latin typeface="Times New Roman"/>
                <a:hlinkClick r:id="rId5" action="ppaction://hlinksldjump"/>
              </a:rPr>
              <a:t>信息量及数字信号传输要求</a:t>
            </a:r>
            <a:r>
              <a:rPr b="1" lang="zh-CN" sz="2800" spc="-1" strike="noStrike" u="sng">
                <a:solidFill>
                  <a:srgbClr val="ff7c80"/>
                </a:solidFill>
                <a:uFillTx/>
                <a:latin typeface="Times New Roman"/>
                <a:hlinkClick r:id="rId6" action="ppaction://hlinksldjump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7c80"/>
                </a:solidFill>
                <a:uFillTx/>
                <a:latin typeface="Arial"/>
                <a:hlinkClick r:id="rId7" action="ppaction://hlinksldjump"/>
              </a:rPr>
              <a:t>2.3  </a:t>
            </a:r>
            <a:r>
              <a:rPr b="1" lang="zh-CN" sz="2800" spc="-1" strike="noStrike" u="sng">
                <a:solidFill>
                  <a:srgbClr val="ff7c80"/>
                </a:solidFill>
                <a:uFillTx/>
                <a:latin typeface="Times New Roman"/>
                <a:hlinkClick r:id="rId8" action="ppaction://hlinksldjump"/>
              </a:rPr>
              <a:t>错误图样及差错控制方式</a:t>
            </a:r>
            <a:r>
              <a:rPr b="1" lang="zh-CN" sz="2800" spc="-1" strike="noStrike" u="sng">
                <a:solidFill>
                  <a:srgbClr val="ff7c80"/>
                </a:solidFill>
                <a:uFillTx/>
                <a:latin typeface="Times New Roman"/>
                <a:hlinkClick r:id="rId9" action="ppaction://hlinksldjump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7c80"/>
                </a:solidFill>
                <a:uFillTx/>
                <a:latin typeface="Arial"/>
                <a:hlinkClick r:id="rId10" action="ppaction://hlinksldjump"/>
              </a:rPr>
              <a:t>2.4  </a:t>
            </a:r>
            <a:r>
              <a:rPr b="1" lang="zh-CN" sz="2800" spc="-1" strike="noStrike" u="sng">
                <a:solidFill>
                  <a:srgbClr val="ff7c80"/>
                </a:solidFill>
                <a:uFillTx/>
                <a:latin typeface="Times New Roman"/>
                <a:hlinkClick r:id="rId11" action="ppaction://hlinksldjump"/>
              </a:rPr>
              <a:t>抗干扰编码的基本概念及理论</a:t>
            </a:r>
            <a:r>
              <a:rPr b="1" lang="zh-CN" sz="2800" spc="-1" strike="noStrike" u="sng">
                <a:solidFill>
                  <a:srgbClr val="ff7c80"/>
                </a:solidFill>
                <a:uFillTx/>
                <a:latin typeface="Times New Roman"/>
                <a:hlinkClick r:id="rId12" action="ppaction://hlinksldjump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7c80"/>
                </a:solidFill>
                <a:uFillTx/>
                <a:latin typeface="Arial"/>
                <a:hlinkClick r:id="rId13" action="ppaction://hlinksldjump"/>
              </a:rPr>
              <a:t>2.5  </a:t>
            </a:r>
            <a:r>
              <a:rPr b="1" lang="zh-CN" sz="2800" spc="-1" strike="noStrike" u="sng">
                <a:solidFill>
                  <a:srgbClr val="ff7c80"/>
                </a:solidFill>
                <a:uFillTx/>
                <a:latin typeface="Times New Roman"/>
                <a:hlinkClick r:id="rId14" action="ppaction://hlinksldjump"/>
              </a:rPr>
              <a:t>常用检错码</a:t>
            </a:r>
            <a:r>
              <a:rPr b="1" lang="zh-CN" sz="2800" spc="-1" strike="noStrike" u="sng">
                <a:solidFill>
                  <a:srgbClr val="ff7c80"/>
                </a:solidFill>
                <a:uFillTx/>
                <a:latin typeface="Times New Roman"/>
                <a:hlinkClick r:id="rId15" action="ppaction://hlinksldjump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7c80"/>
                </a:solidFill>
                <a:uFillTx/>
                <a:latin typeface="Arial"/>
                <a:hlinkClick r:id="rId16" action="ppaction://hlinksldjump"/>
              </a:rPr>
              <a:t>2.6  </a:t>
            </a:r>
            <a:r>
              <a:rPr b="1" lang="zh-CN" sz="2800" spc="-1" strike="noStrike" u="sng">
                <a:solidFill>
                  <a:srgbClr val="ff7c80"/>
                </a:solidFill>
                <a:uFillTx/>
                <a:latin typeface="Times New Roman"/>
                <a:hlinkClick r:id="rId17" action="ppaction://hlinksldjump"/>
              </a:rPr>
              <a:t>线性分组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7c80"/>
                </a:solidFill>
                <a:uFillTx/>
                <a:latin typeface="Arial"/>
                <a:hlinkClick r:id="rId18" action="ppaction://hlinksldjump"/>
              </a:rPr>
              <a:t>2.7  </a:t>
            </a:r>
            <a:r>
              <a:rPr b="1" lang="zh-CN" sz="2800" spc="-1" strike="noStrike" u="sng">
                <a:solidFill>
                  <a:srgbClr val="ff7c80"/>
                </a:solidFill>
                <a:uFillTx/>
                <a:latin typeface="Times New Roman"/>
                <a:hlinkClick r:id="rId19" action="ppaction://hlinksldjump"/>
              </a:rPr>
              <a:t>循环码</a:t>
            </a:r>
            <a:r>
              <a:rPr b="1" lang="zh-CN" sz="2800" spc="-1" strike="noStrike" u="sng">
                <a:solidFill>
                  <a:srgbClr val="ff7c80"/>
                </a:solidFill>
                <a:uFillTx/>
                <a:latin typeface="Times New Roman"/>
                <a:hlinkClick r:id="rId20" action="ppaction://hlinksldjump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9126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传输错误率则可有以下三种表达方式：</a:t>
            </a:r>
            <a:r>
              <a:rPr b="1" lang="zh-CN" sz="3200" spc="-1" strike="noStrike">
                <a:solidFill>
                  <a:srgbClr val="009900"/>
                </a:solidFill>
                <a:latin typeface="Arial Black"/>
              </a:rPr>
              <a:t> </a:t>
            </a:r>
            <a:endParaRPr b="1" lang="en-US" sz="3200" spc="-1" strike="noStrike">
              <a:solidFill>
                <a:srgbClr val="0099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误码率（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zh-CN" sz="2000" spc="-1" strike="noStrike" baseline="-30000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：指错误接收消息的码元数在传输消息的总码元数中所占的比例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-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误比特率（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zh-CN" sz="2000" spc="-1" strike="noStrike" baseline="-30000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：指错误接收消息的比特数在传输消息的总比特数中所占的比例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-7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显然，对二进制信号而言，误比特率和误码率是相同的，即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zh-CN" sz="2000" spc="-1" strike="noStrike" baseline="-30000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zh-CN" sz="2000" spc="-1" strike="noStrike" baseline="-30000">
                <a:solidFill>
                  <a:srgbClr val="000000"/>
                </a:solidFill>
                <a:latin typeface="Arial"/>
              </a:rPr>
              <a:t>e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误字率（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zh-CN" sz="2000" spc="-1" strike="noStrike" baseline="-30000">
                <a:solidFill>
                  <a:srgbClr val="000000"/>
                </a:solidFill>
                <a:latin typeface="Arial"/>
              </a:rPr>
              <a:t>w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：指错字数在传输总字数中所占的比例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9108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685800" y="2514600"/>
                <a:ext cx="40813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错误接收消息的码元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传输消息的总码元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369108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838080" y="4114800"/>
                <a:ext cx="33530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错误接收消息的比特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传输消息的总比特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6685200" y="6324480"/>
            <a:ext cx="790200" cy="398880"/>
          </a:xfrm>
          <a:prstGeom prst="rect">
            <a:avLst/>
          </a:prstGeom>
          <a:noFill/>
          <a:ln cap="rnd" w="38160">
            <a:solidFill>
              <a:srgbClr val="8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99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9126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 Black"/>
              </a:rPr>
              <a:t>2.3  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错误图样及差错控制方式</a:t>
            </a:r>
            <a:r>
              <a:rPr b="1" lang="zh-CN" sz="3200" spc="-1" strike="noStrike">
                <a:solidFill>
                  <a:srgbClr val="009900"/>
                </a:solidFill>
                <a:latin typeface="Arial Black"/>
              </a:rPr>
              <a:t> </a:t>
            </a:r>
            <a:endParaRPr b="1" lang="en-US" sz="3200" spc="-1" strike="noStrike">
              <a:solidFill>
                <a:srgbClr val="0099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差错控制方式可以分成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的四种基本类型。在下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深色方框表示在该端检查出差错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981080" y="3581280"/>
            <a:ext cx="4419720" cy="2381400"/>
          </a:xfrm>
          <a:prstGeom prst="rect">
            <a:avLst/>
          </a:prstGeom>
          <a:ln w="0">
            <a:noFill/>
          </a:ln>
        </p:spPr>
      </p:pic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6786720" y="6324480"/>
            <a:ext cx="1095120" cy="398880"/>
          </a:xfrm>
          <a:prstGeom prst="rect">
            <a:avLst/>
          </a:prstGeom>
          <a:noFill/>
          <a:ln cap="rnd" w="38160">
            <a:solidFill>
              <a:srgbClr val="8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99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7543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．前向纠错（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FEC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：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前向纠错方式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FEC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Forward Error Correction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）是在发送端将数据信息按一定的规则附加余码元，组成纠错码。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自动回询重传（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ARQ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：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这种方式又可称为检错重传、判决反馈或反馈纠错，记作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ARQ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Automatic Repeat Request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混合差错控制方式（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HEC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：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如果将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FEC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ARQ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适当结合起来，就能克服各自的缺点，这就是混合差错控制方式，也称混合纠错方式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HEC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Hybrid Error Correction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信息反馈（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IRQ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：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也就是信息重传请求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IRQ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Information Repeat Request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），将接收到的数据原封不动地通过反馈信道送回到发送端。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85200" y="6324480"/>
            <a:ext cx="790200" cy="398880"/>
          </a:xfrm>
          <a:prstGeom prst="rect">
            <a:avLst/>
          </a:prstGeom>
          <a:noFill/>
          <a:ln cap="rnd" w="38160">
            <a:solidFill>
              <a:srgbClr val="8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99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9126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 Black"/>
              </a:rPr>
              <a:t>2.4  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抗干扰编码的基本概念及理论</a:t>
            </a:r>
            <a:r>
              <a:rPr b="1" lang="zh-CN" sz="3200" spc="-1" strike="noStrike">
                <a:solidFill>
                  <a:srgbClr val="009900"/>
                </a:solidFill>
                <a:latin typeface="Arial Black"/>
              </a:rPr>
              <a:t> </a:t>
            </a:r>
            <a:endParaRPr b="1" lang="en-US" sz="3200" spc="-1" strike="noStrike">
              <a:solidFill>
                <a:srgbClr val="0099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00200" y="213372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7c80"/>
                </a:solidFill>
                <a:uFillTx/>
                <a:latin typeface="Arial"/>
                <a:hlinkClick r:id="rId1" action="ppaction://hlinksldjump"/>
              </a:rPr>
              <a:t>2.4.1  </a:t>
            </a:r>
            <a:r>
              <a:rPr b="1" lang="zh-CN" sz="2800" spc="-1" strike="noStrike" u="sng">
                <a:solidFill>
                  <a:srgbClr val="ff7c80"/>
                </a:solidFill>
                <a:uFillTx/>
                <a:latin typeface="Times New Roman"/>
                <a:hlinkClick r:id="rId2" action="ppaction://hlinksldjump"/>
              </a:rPr>
              <a:t>数字远动系统模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7c80"/>
                </a:solidFill>
                <a:uFillTx/>
                <a:latin typeface="Arial"/>
                <a:hlinkClick r:id="rId3" action="ppaction://hlinksldjump"/>
              </a:rPr>
              <a:t>2.4.2  </a:t>
            </a:r>
            <a:r>
              <a:rPr b="1" lang="zh-CN" sz="2800" spc="-1" strike="noStrike" u="sng">
                <a:solidFill>
                  <a:srgbClr val="ff7c80"/>
                </a:solidFill>
                <a:uFillTx/>
                <a:latin typeface="Times New Roman"/>
                <a:hlinkClick r:id="rId4" action="ppaction://hlinksldjump"/>
              </a:rPr>
              <a:t>抗干扰编码的基本原理</a:t>
            </a:r>
            <a:r>
              <a:rPr b="1" lang="zh-CN" sz="2800" spc="-1" strike="noStrike" u="sng">
                <a:solidFill>
                  <a:srgbClr val="ff7c80"/>
                </a:solidFill>
                <a:uFillTx/>
                <a:latin typeface="Times New Roman"/>
                <a:hlinkClick r:id="rId5" action="ppaction://hlinksldjump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6" action="ppaction://hlinksldjump"/>
          </p:cNvPr>
          <p:cNvSpPr/>
          <p:nvPr/>
        </p:nvSpPr>
        <p:spPr>
          <a:xfrm>
            <a:off x="6786720" y="6324480"/>
            <a:ext cx="1095120" cy="398880"/>
          </a:xfrm>
          <a:prstGeom prst="rect">
            <a:avLst/>
          </a:prstGeom>
          <a:noFill/>
          <a:ln cap="rnd" w="38160">
            <a:solidFill>
              <a:srgbClr val="8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99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9126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 Black"/>
              </a:rPr>
              <a:t>2.4.1  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数字远动系统模型</a:t>
            </a:r>
            <a:r>
              <a:rPr b="1" lang="zh-CN" sz="3200" spc="-1" strike="noStrike">
                <a:solidFill>
                  <a:srgbClr val="009900"/>
                </a:solidFill>
                <a:latin typeface="Arial Black"/>
              </a:rPr>
              <a:t> </a:t>
            </a:r>
            <a:endParaRPr b="1" lang="en-US" sz="3200" spc="-1" strike="noStrike">
              <a:solidFill>
                <a:srgbClr val="009900"/>
              </a:solidFill>
              <a:latin typeface="Arial Black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33520" y="2819520"/>
          <a:ext cx="7543800" cy="173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819520"/>
                    <a:ext cx="7543800" cy="17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2777400" y="4952880"/>
            <a:ext cx="25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5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字远动系统模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9126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干扰编码器的作用是根据一定的原则，将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信息元组成的信息序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变成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码元组成的二进制数字序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称为码字。因为信源编码是从有效性考虑，它产生的信息序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没有抗干扰能力的，抗干扰编码的目的是提高信息序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抗干扰能力，使之能应付信息中的干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9126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干扰译码器根据接收序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抗干扰编码规则及信道特性，完成以下两项任务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设法检查并纠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的传输错误，产生真正发送码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估值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变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信道序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估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74674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计出的抗干扰编、译码器应根据信道实际存在的干扰类型，做到：</a:t>
            </a:r>
            <a:endParaRPr b="1" lang="en-US" sz="2800" spc="-1" strike="noStrike">
              <a:solidFill>
                <a:srgbClr val="0099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21337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编出的码字能尽快地在噪声信道上传输，即提高传输率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在传输率一定的条件下，使错误概率尽量小。也就是使码字的抗干扰能力强，在收端能正确地再现信息序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85200" y="6324480"/>
            <a:ext cx="790200" cy="398880"/>
          </a:xfrm>
          <a:prstGeom prst="rect">
            <a:avLst/>
          </a:prstGeom>
          <a:noFill/>
          <a:ln cap="rnd" w="38160">
            <a:solidFill>
              <a:srgbClr val="8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99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9126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 Black"/>
              </a:rPr>
              <a:t>2.4.2  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抗干扰编码的基本原理</a:t>
            </a:r>
            <a:r>
              <a:rPr b="1" lang="zh-CN" sz="3200" spc="-1" strike="noStrike">
                <a:solidFill>
                  <a:srgbClr val="009900"/>
                </a:solidFill>
                <a:latin typeface="Arial Black"/>
              </a:rPr>
              <a:t> </a:t>
            </a:r>
            <a:endParaRPr b="1" lang="en-US" sz="3200" spc="-1" strike="noStrike">
              <a:solidFill>
                <a:srgbClr val="0099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通过一此例子，可得到如下结论：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若只要求一个（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码能发现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个错误，则要求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+1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-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若只要求一个（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码能纠正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个错误，则要求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+1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-9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若要求一个（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码发现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个错误，并能纠正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个错误，则要求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+1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-1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9126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干扰编码的一些重要概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个码字中信息元所占的比重称为编码效率，简称码率。码率为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一个码字中，信息元所占比重越大，则码率越高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编码中的另一个重要概念是码字的汉明重量，简称重量。一个码字的重量就是该码字中非零元素的数目，用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，在二进制下就是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数目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85200" y="6324480"/>
            <a:ext cx="790200" cy="398880"/>
          </a:xfrm>
          <a:prstGeom prst="rect">
            <a:avLst/>
          </a:prstGeom>
          <a:noFill/>
          <a:ln cap="rnd" w="38160">
            <a:solidFill>
              <a:srgbClr val="8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99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9126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本章学习目标</a:t>
            </a:r>
            <a:endParaRPr b="1" lang="en-US" sz="3200" spc="-1" strike="noStrike">
              <a:solidFill>
                <a:srgbClr val="0099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数据传输系统的组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抗干扰编码的基本概念及理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差错控制方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错误图样及差错控制方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几种常用检错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循环码和线性分组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1" action="ppaction://hlinksldjump"/>
          </p:cNvPr>
          <p:cNvSpPr/>
          <p:nvPr/>
        </p:nvSpPr>
        <p:spPr>
          <a:xfrm>
            <a:off x="6786720" y="6324480"/>
            <a:ext cx="1095120" cy="398880"/>
          </a:xfrm>
          <a:prstGeom prst="rect">
            <a:avLst/>
          </a:prstGeom>
          <a:noFill/>
          <a:ln cap="rnd" w="38160">
            <a:solidFill>
              <a:srgbClr val="8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99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912600"/>
            <a:ext cx="64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 Black"/>
              </a:rPr>
              <a:t>2.5  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常用检错码</a:t>
            </a:r>
            <a:r>
              <a:rPr b="1" lang="zh-CN" sz="3200" spc="-1" strike="noStrike">
                <a:solidFill>
                  <a:srgbClr val="009900"/>
                </a:solidFill>
                <a:latin typeface="Arial Black"/>
              </a:rPr>
              <a:t> </a:t>
            </a:r>
            <a:endParaRPr b="1" lang="en-US" sz="3200" spc="-1" strike="noStrike">
              <a:solidFill>
                <a:srgbClr val="0099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76160" y="20574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7c80"/>
                </a:solidFill>
                <a:uFillTx/>
                <a:latin typeface="Arial"/>
                <a:hlinkClick r:id="rId1" action="ppaction://hlinksldjump"/>
              </a:rPr>
              <a:t>1</a:t>
            </a:r>
            <a:r>
              <a:rPr b="1" lang="zh-CN" sz="2800" spc="-1" strike="noStrike" u="sng">
                <a:solidFill>
                  <a:srgbClr val="ff7c80"/>
                </a:solidFill>
                <a:uFillTx/>
                <a:latin typeface="Times New Roman"/>
                <a:hlinkClick r:id="rId2" action="ppaction://hlinksldjump"/>
              </a:rPr>
              <a:t>．奇偶监督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7c80"/>
                </a:solidFill>
                <a:uFillTx/>
                <a:latin typeface="Times New Roman"/>
                <a:hlinkClick r:id="rId3" action="ppaction://hlinksldjump"/>
              </a:rPr>
              <a:t>2．定比码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7c80"/>
                </a:solidFill>
                <a:uFillTx/>
                <a:latin typeface="Arial"/>
                <a:hlinkClick r:id="rId4" action="ppaction://hlinksldjump"/>
              </a:rPr>
              <a:t>3</a:t>
            </a:r>
            <a:r>
              <a:rPr b="1" lang="zh-CN" sz="2800" spc="-1" strike="noStrike" u="sng">
                <a:solidFill>
                  <a:srgbClr val="ff7c80"/>
                </a:solidFill>
                <a:uFillTx/>
                <a:latin typeface="Times New Roman"/>
                <a:hlinkClick r:id="rId5" action="ppaction://hlinksldjump"/>
              </a:rPr>
              <a:t>．水平一致校验码</a:t>
            </a:r>
            <a:r>
              <a:rPr b="1" lang="zh-CN" sz="2800" spc="-1" strike="noStrike" u="sng">
                <a:solidFill>
                  <a:srgbClr val="ff7c80"/>
                </a:solidFill>
                <a:uFillTx/>
                <a:latin typeface="Times New Roman"/>
                <a:hlinkClick r:id="rId6" action="ppaction://hlinksldjump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7c80"/>
                </a:solidFill>
                <a:uFillTx/>
                <a:latin typeface="Arial"/>
                <a:hlinkClick r:id="rId7" action="ppaction://hlinksldjump"/>
              </a:rPr>
              <a:t>4</a:t>
            </a:r>
            <a:r>
              <a:rPr b="1" lang="zh-CN" sz="2800" spc="-1" strike="noStrike" u="sng">
                <a:solidFill>
                  <a:srgbClr val="ff7c80"/>
                </a:solidFill>
                <a:uFillTx/>
                <a:latin typeface="Times New Roman"/>
                <a:hlinkClick r:id="rId8" action="ppaction://hlinksldjump"/>
              </a:rPr>
              <a:t>．水平垂直一致校验码（方阵码）</a:t>
            </a:r>
            <a:r>
              <a:rPr b="1" lang="zh-CN" sz="2800" spc="-1" strike="noStrike" u="sng">
                <a:solidFill>
                  <a:srgbClr val="ff7c80"/>
                </a:solidFill>
                <a:uFillTx/>
                <a:latin typeface="Times New Roman"/>
                <a:hlinkClick r:id="rId9" action="ppaction://hlinksldjump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786720" y="6324480"/>
            <a:ext cx="1095120" cy="398880"/>
          </a:xfrm>
          <a:prstGeom prst="rect">
            <a:avLst/>
          </a:prstGeom>
          <a:noFill/>
          <a:ln cap="rnd" w="38160">
            <a:solidFill>
              <a:srgbClr val="8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99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9126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奇偶监督码</a:t>
            </a:r>
            <a:endParaRPr b="1" lang="en-US" sz="3200" spc="-1" strike="noStrike">
              <a:solidFill>
                <a:srgbClr val="0099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若构成一个（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码，则有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个信息元为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Arial"/>
              </a:rPr>
              <a:t>n-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Arial"/>
              </a:rPr>
              <a:t>n-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…，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=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个监督元为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当偶数监督时，它们之间的关系为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Arial"/>
              </a:rPr>
              <a:t>n-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Arial"/>
              </a:rPr>
              <a:t>n-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Arial"/>
              </a:rPr>
              <a:t>n-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Arial"/>
              </a:rPr>
              <a:t>1=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-1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当奇数监督时，它们之间的关系为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Arial"/>
              </a:rPr>
              <a:t>n-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Arial"/>
              </a:rPr>
              <a:t>n-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Arial"/>
              </a:rPr>
              <a:t>n-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+1=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-1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式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-1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表示监督元是所有信息元的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相加。这样能保证所编出的每一个码字中“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数目是偶数，故称这种（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码为偶数监督码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式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-1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可说是所有信息元与一个监督元的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相加为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则编出的每一个码字中“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数目是奇数，称这种码为奇数监督码。奇数监督码或偶数监督码，还可统称为奇偶监督码（或称奇偶校验码）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609480" y="2438280"/>
          <a:ext cx="7162920" cy="19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438280"/>
                    <a:ext cx="7162920" cy="19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2396880" y="4876920"/>
            <a:ext cx="39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2.1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常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842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代码的奇偶监督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85200" y="6324480"/>
            <a:ext cx="790200" cy="398880"/>
          </a:xfrm>
          <a:prstGeom prst="rect">
            <a:avLst/>
          </a:prstGeom>
          <a:noFill/>
          <a:ln cap="rnd" w="38160">
            <a:solidFill>
              <a:srgbClr val="8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99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9126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定比码 </a:t>
            </a:r>
            <a:endParaRPr b="1" lang="en-US" sz="3200" spc="-1" strike="noStrike">
              <a:solidFill>
                <a:srgbClr val="0099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定比码是使所编码字中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数目保持一定，而在接收端检查码字中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数目是否为给定常数，借此来检出错码。定比码在远动系统中采用较多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简单讲，这种码就是“从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取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，这里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码组长度，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每个许用码组中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数目，例如“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定比码，就是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二进制数字组成一个码组，这样组成的码组总共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=3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9126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Arial Black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143000" y="2438280"/>
          <a:ext cx="6462720" cy="18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438280"/>
                    <a:ext cx="646272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3141000" y="484200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定比码的许用码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85200" y="6324480"/>
            <a:ext cx="790200" cy="398880"/>
          </a:xfrm>
          <a:prstGeom prst="rect">
            <a:avLst/>
          </a:prstGeom>
          <a:noFill/>
          <a:ln cap="rnd" w="38160">
            <a:solidFill>
              <a:srgbClr val="8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99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240" y="9126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水平一致校验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99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水平一致校验码的编码方法如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把信息码元以适当长度划分成小组，各小组按行排列，对各行的信息元进行奇偶校验，得到的校验元附在每行的后面。传送时以列传输：首先传送第一列，再传送第二列，最后送校验元列。本例中信道传送的序列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0111011011101......1010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这种码能发现所有长度不大于列长的突发错误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759840" y="5181480"/>
            <a:ext cx="11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.3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水平一致校验编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4572000" cy="31208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685200" y="6324480"/>
            <a:ext cx="790200" cy="398880"/>
          </a:xfrm>
          <a:prstGeom prst="rect">
            <a:avLst/>
          </a:prstGeom>
          <a:noFill/>
          <a:ln cap="rnd" w="38160">
            <a:solidFill>
              <a:srgbClr val="8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99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240" y="9126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水平垂直一致校验码（方阵码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99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4419720" cy="31035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580560" y="5486400"/>
            <a:ext cx="11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.4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水平垂直一致校验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85200" y="6324480"/>
            <a:ext cx="790200" cy="398880"/>
          </a:xfrm>
          <a:prstGeom prst="rect">
            <a:avLst/>
          </a:prstGeom>
          <a:noFill/>
          <a:ln cap="rnd" w="38160">
            <a:solidFill>
              <a:srgbClr val="8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99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240" y="9126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 Black"/>
              </a:rPr>
              <a:t>2.6  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线性分组码</a:t>
            </a:r>
            <a:r>
              <a:rPr b="1" lang="zh-CN" sz="3200" spc="-1" strike="noStrike">
                <a:solidFill>
                  <a:srgbClr val="009900"/>
                </a:solidFill>
                <a:latin typeface="Arial Black"/>
              </a:rPr>
              <a:t> </a:t>
            </a:r>
            <a:endParaRPr b="1" lang="en-US" sz="3200" spc="-1" strike="noStrike">
              <a:solidFill>
                <a:srgbClr val="0099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7c80"/>
                </a:solidFill>
                <a:uFillTx/>
                <a:latin typeface="Arial"/>
                <a:hlinkClick r:id="rId1" action="ppaction://hlinksldjump"/>
              </a:rPr>
              <a:t>2.6.1  </a:t>
            </a:r>
            <a:r>
              <a:rPr b="1" lang="zh-CN" sz="2800" spc="-1" strike="noStrike" u="sng">
                <a:solidFill>
                  <a:srgbClr val="ff7c80"/>
                </a:solidFill>
                <a:uFillTx/>
                <a:latin typeface="Times New Roman"/>
                <a:hlinkClick r:id="rId2" action="ppaction://hlinksldjump"/>
              </a:rPr>
              <a:t>基本概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7c80"/>
                </a:solidFill>
                <a:uFillTx/>
                <a:latin typeface="Arial"/>
                <a:hlinkClick r:id="rId3" action="ppaction://hlinksldjump"/>
              </a:rPr>
              <a:t>2.6.2  </a:t>
            </a:r>
            <a:r>
              <a:rPr b="1" lang="zh-CN" sz="2800" spc="-1" strike="noStrike" u="sng">
                <a:solidFill>
                  <a:srgbClr val="ff7c80"/>
                </a:solidFill>
                <a:uFillTx/>
                <a:latin typeface="Times New Roman"/>
                <a:hlinkClick r:id="rId4" action="ppaction://hlinksldjump"/>
              </a:rPr>
              <a:t>监督矩阵</a:t>
            </a:r>
            <a:r>
              <a:rPr b="1" lang="zh-CN" sz="2800" spc="-1" strike="noStrike" u="sng">
                <a:solidFill>
                  <a:srgbClr val="ff7c80"/>
                </a:solidFill>
                <a:uFillTx/>
                <a:latin typeface="Times New Roman"/>
                <a:hlinkClick r:id="rId5" action="ppaction://hlinksldjump"/>
              </a:rPr>
              <a:t>H</a:t>
            </a:r>
            <a:r>
              <a:rPr b="1" lang="zh-CN" sz="2800" spc="-1" strike="noStrike" u="sng">
                <a:solidFill>
                  <a:srgbClr val="ff7c80"/>
                </a:solidFill>
                <a:uFillTx/>
                <a:latin typeface="Times New Roman"/>
                <a:hlinkClick r:id="rId6" action="ppaction://hlinksldjump"/>
              </a:rPr>
              <a:t>和生成矩阵</a:t>
            </a:r>
            <a:r>
              <a:rPr b="1" lang="zh-CN" sz="2800" spc="-1" strike="noStrike" u="sng">
                <a:solidFill>
                  <a:srgbClr val="ff7c80"/>
                </a:solidFill>
                <a:uFillTx/>
                <a:latin typeface="Times New Roman"/>
                <a:hlinkClick r:id="rId7" action="ppaction://hlinksldjump"/>
              </a:rPr>
              <a:t>G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7c80"/>
                </a:solidFill>
                <a:uFillTx/>
                <a:latin typeface="Arial"/>
                <a:hlinkClick r:id="rId8" action="ppaction://hlinksldjump"/>
              </a:rPr>
              <a:t>2.6.3  </a:t>
            </a:r>
            <a:r>
              <a:rPr b="1" lang="zh-CN" sz="2800" spc="-1" strike="noStrike" u="sng">
                <a:solidFill>
                  <a:srgbClr val="ff7c80"/>
                </a:solidFill>
                <a:uFillTx/>
                <a:latin typeface="Times New Roman"/>
                <a:hlinkClick r:id="rId9" action="ppaction://hlinksldjump"/>
              </a:rPr>
              <a:t>伴随式（校正子）</a:t>
            </a:r>
            <a:r>
              <a:rPr b="1" lang="zh-CN" sz="2800" spc="-1" strike="noStrike" u="sng">
                <a:solidFill>
                  <a:srgbClr val="ff7c80"/>
                </a:solidFill>
                <a:uFillTx/>
                <a:latin typeface="Times New Roman"/>
                <a:hlinkClick r:id="rId10" action="ppaction://hlinksldjump"/>
              </a:rPr>
              <a:t>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86720" y="6324480"/>
            <a:ext cx="1095120" cy="398880"/>
          </a:xfrm>
          <a:prstGeom prst="rect">
            <a:avLst/>
          </a:prstGeom>
          <a:noFill/>
          <a:ln cap="rnd" w="38160">
            <a:solidFill>
              <a:srgbClr val="8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99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9126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2.6.1  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基本概念</a:t>
            </a:r>
            <a:endParaRPr b="1" lang="en-US" sz="3200" spc="-1" strike="noStrike">
              <a:solidFill>
                <a:srgbClr val="0099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（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分组码中，若每一个监督元都是码组中某些信息元按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而得到的，即监督元是按线性关系相加而得到的，则称其为线性分组码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现以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分组码为例来说明线性分组码的特点。设其码字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=[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其中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是信息元，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是监督元，可用下列线性方程组来描述该分组码，产生监督元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-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3876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048120" y="4648320"/>
          <a:ext cx="2895480" cy="135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4648320"/>
                    <a:ext cx="2895480" cy="13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126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 Black"/>
              </a:rPr>
              <a:t>2.1  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数据传输系统的组成</a:t>
            </a:r>
            <a:r>
              <a:rPr b="1" lang="zh-CN" sz="3200" spc="-1" strike="noStrike">
                <a:solidFill>
                  <a:srgbClr val="009900"/>
                </a:solidFill>
                <a:latin typeface="Arial Black"/>
              </a:rPr>
              <a:t> </a:t>
            </a:r>
            <a:endParaRPr b="1" lang="en-US" sz="3200" spc="-1" strike="noStrike">
              <a:solidFill>
                <a:srgbClr val="0099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47920" y="22096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7c80"/>
                </a:solidFill>
                <a:uFillTx/>
                <a:latin typeface="Arial"/>
                <a:hlinkClick r:id="rId1" action="ppaction://hlinksldjump"/>
              </a:rPr>
              <a:t>2.1.1  </a:t>
            </a:r>
            <a:r>
              <a:rPr b="1" lang="zh-CN" sz="2800" spc="-1" strike="noStrike" u="sng">
                <a:solidFill>
                  <a:srgbClr val="ff7c80"/>
                </a:solidFill>
                <a:uFillTx/>
                <a:latin typeface="Times New Roman"/>
                <a:hlinkClick r:id="rId2" action="ppaction://hlinksldjump"/>
              </a:rPr>
              <a:t>电力调度自动化系统的基本组成</a:t>
            </a:r>
            <a:r>
              <a:rPr b="1" lang="zh-CN" sz="2800" spc="-1" strike="noStrike" u="sng">
                <a:solidFill>
                  <a:srgbClr val="ff7c80"/>
                </a:solidFill>
                <a:uFillTx/>
                <a:latin typeface="Times New Roman"/>
                <a:hlinkClick r:id="rId3" action="ppaction://hlinksldjump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7c80"/>
                </a:solidFill>
                <a:uFillTx/>
                <a:latin typeface="Arial"/>
                <a:hlinkClick r:id="rId4" action="ppaction://hlinksldjump"/>
              </a:rPr>
              <a:t>2.1.2  </a:t>
            </a:r>
            <a:r>
              <a:rPr b="1" lang="zh-CN" sz="2800" spc="-1" strike="noStrike" u="sng">
                <a:solidFill>
                  <a:srgbClr val="ff7c80"/>
                </a:solidFill>
                <a:uFillTx/>
                <a:latin typeface="Times New Roman"/>
                <a:hlinkClick r:id="rId5" action="ppaction://hlinksldjump"/>
              </a:rPr>
              <a:t>数据传输系统的构成</a:t>
            </a:r>
            <a:r>
              <a:rPr b="1" lang="zh-CN" sz="2800" spc="-1" strike="noStrike" u="sng">
                <a:solidFill>
                  <a:srgbClr val="ff7c80"/>
                </a:solidFill>
                <a:uFillTx/>
                <a:latin typeface="Times New Roman"/>
                <a:hlinkClick r:id="rId6" action="ppaction://hlinksldjump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6786720" y="6324480"/>
            <a:ext cx="1095120" cy="398880"/>
          </a:xfrm>
          <a:prstGeom prst="rect">
            <a:avLst/>
          </a:prstGeom>
          <a:noFill/>
          <a:ln cap="rnd" w="38160">
            <a:solidFill>
              <a:srgbClr val="8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99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240" y="9126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Arial Black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914400" y="1676520"/>
          <a:ext cx="6377040" cy="335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76520"/>
                    <a:ext cx="6377040" cy="33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2844000" y="5334120"/>
            <a:ext cx="31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5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码的码字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685200" y="6324480"/>
            <a:ext cx="790200" cy="398880"/>
          </a:xfrm>
          <a:prstGeom prst="rect">
            <a:avLst/>
          </a:prstGeom>
          <a:noFill/>
          <a:ln cap="rnd" w="38160">
            <a:solidFill>
              <a:srgbClr val="8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99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240" y="9126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2.6.2  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监督矩阵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H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和生成矩阵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G </a:t>
            </a:r>
            <a:endParaRPr b="1" lang="en-US" sz="3200" spc="-1" strike="noStrike">
              <a:solidFill>
                <a:srgbClr val="0099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式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-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所述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码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监督方程式可以改写为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-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组线性方程可用矩阵形式表示为：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-1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895480"/>
            <a:ext cx="4952880" cy="11574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057400" y="5105520"/>
            <a:ext cx="274320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33160" y="914400"/>
            <a:ext cx="7543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并简记为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HC</a:t>
            </a:r>
            <a:r>
              <a:rPr b="1" lang="zh-CN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zh-CN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0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-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中，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转置，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[0 0 0]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转置，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zh-CN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转置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362320" y="2666880"/>
            <a:ext cx="1981080" cy="15624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484240" y="3200400"/>
            <a:ext cx="14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-1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48480" y="4419720"/>
            <a:ext cx="40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式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-1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所示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矩阵可分成两部分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133720" y="5029200"/>
            <a:ext cx="2438280" cy="1251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751000" y="5486400"/>
            <a:ext cx="12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-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914400" y="2209680"/>
          <a:ext cx="2741760" cy="28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09680"/>
                    <a:ext cx="2741760" cy="28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1333080" y="129528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把监督方程补充为下列方程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07600" y="5410080"/>
            <a:ext cx="12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-2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19200" y="22860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改写为矩阵形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4952880" y="3200400"/>
            <a:ext cx="2224080" cy="25909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5430240" y="5908680"/>
            <a:ext cx="12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-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40440" y="858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2514600" cy="20052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5674680" y="2286000"/>
            <a:ext cx="12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-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0440" y="3962520"/>
            <a:ext cx="354096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变换为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[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·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2209680" y="4648320"/>
            <a:ext cx="2210040" cy="16732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865120" y="5410080"/>
            <a:ext cx="14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-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04560" y="1143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称为生成矩阵，由</a:t>
            </a:r>
            <a:r>
              <a:rPr b="1" i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信息组就可以产生全部码字。</a:t>
            </a:r>
            <a:r>
              <a:rPr b="1" i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</a:t>
            </a:r>
            <a:r>
              <a:rPr b="1" i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i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阶矩阵，各行也是线性无关的。生成矩阵也可以分为两部分，即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</a:t>
            </a:r>
            <a:r>
              <a:rPr b="1" i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</a:t>
            </a:r>
            <a:r>
              <a:rPr b="1" i="1" lang="zh-CN" sz="28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k </a:t>
            </a:r>
            <a:r>
              <a:rPr b="1" i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Q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-2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514600" y="3886200"/>
          <a:ext cx="14778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886200"/>
                    <a:ext cx="14778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5834520" y="4521240"/>
            <a:ext cx="14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-2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685200" y="6324480"/>
            <a:ext cx="790200" cy="398880"/>
          </a:xfrm>
          <a:prstGeom prst="rect">
            <a:avLst/>
          </a:prstGeom>
          <a:noFill/>
          <a:ln cap="rnd" w="38160">
            <a:solidFill>
              <a:srgbClr val="8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99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240" y="9126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2.6.3  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伴随式（校正子）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S </a:t>
            </a:r>
            <a:endParaRPr b="1" lang="en-US" sz="3200" spc="-1" strike="noStrike">
              <a:solidFill>
                <a:srgbClr val="009900"/>
              </a:solidFill>
              <a:latin typeface="Arial Black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371600" y="2286000"/>
          <a:ext cx="6019920" cy="29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86000"/>
                    <a:ext cx="6019920" cy="29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2271240" y="5562720"/>
            <a:ext cx="41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6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对应关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685200" y="6324480"/>
            <a:ext cx="790200" cy="398880"/>
          </a:xfrm>
          <a:prstGeom prst="rect">
            <a:avLst/>
          </a:prstGeom>
          <a:noFill/>
          <a:ln cap="rnd" w="38160">
            <a:solidFill>
              <a:srgbClr val="8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99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240" y="9126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 Black"/>
              </a:rPr>
              <a:t>2.7  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循环码</a:t>
            </a:r>
            <a:r>
              <a:rPr b="1" lang="zh-CN" sz="3200" spc="-1" strike="noStrike">
                <a:solidFill>
                  <a:srgbClr val="009900"/>
                </a:solidFill>
                <a:latin typeface="Arial Black"/>
              </a:rPr>
              <a:t> </a:t>
            </a:r>
            <a:endParaRPr b="1" lang="en-US" sz="3200" spc="-1" strike="noStrike">
              <a:solidFill>
                <a:srgbClr val="0099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905120" y="220968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7c80"/>
                </a:solidFill>
                <a:uFillTx/>
                <a:latin typeface="Arial"/>
                <a:hlinkClick r:id="rId1" action="ppaction://hlinksldjump"/>
              </a:rPr>
              <a:t>2.7.1  </a:t>
            </a:r>
            <a:r>
              <a:rPr b="1" lang="zh-CN" sz="2800" spc="-1" strike="noStrike" u="sng">
                <a:solidFill>
                  <a:srgbClr val="ff7c80"/>
                </a:solidFill>
                <a:uFillTx/>
                <a:latin typeface="Times New Roman"/>
                <a:hlinkClick r:id="rId2" action="ppaction://hlinksldjump"/>
              </a:rPr>
              <a:t>循环码的基本概念和特点</a:t>
            </a:r>
            <a:r>
              <a:rPr b="1" lang="zh-CN" sz="2800" spc="-1" strike="noStrike" u="sng">
                <a:solidFill>
                  <a:srgbClr val="ff7c80"/>
                </a:solidFill>
                <a:uFillTx/>
                <a:latin typeface="Times New Roman"/>
                <a:hlinkClick r:id="rId3" action="ppaction://hlinksldjump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7c80"/>
                </a:solidFill>
                <a:uFillTx/>
                <a:latin typeface="Arial"/>
                <a:hlinkClick r:id="rId4" action="ppaction://hlinksldjump"/>
              </a:rPr>
              <a:t>2.7.2  </a:t>
            </a:r>
            <a:r>
              <a:rPr b="1" lang="zh-CN" sz="2800" spc="-1" strike="noStrike" u="sng">
                <a:solidFill>
                  <a:srgbClr val="ff7c80"/>
                </a:solidFill>
                <a:uFillTx/>
                <a:latin typeface="Times New Roman"/>
                <a:hlinkClick r:id="rId5" action="ppaction://hlinksldjump"/>
              </a:rPr>
              <a:t>循环码的编码</a:t>
            </a:r>
            <a:r>
              <a:rPr b="1" lang="zh-CN" sz="2800" spc="-1" strike="noStrike" u="sng">
                <a:solidFill>
                  <a:srgbClr val="ff7c80"/>
                </a:solidFill>
                <a:uFillTx/>
                <a:latin typeface="Times New Roman"/>
                <a:hlinkClick r:id="rId6" action="ppaction://hlinksldjump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786720" y="6324480"/>
            <a:ext cx="1095120" cy="398880"/>
          </a:xfrm>
          <a:prstGeom prst="rect">
            <a:avLst/>
          </a:prstGeom>
          <a:noFill/>
          <a:ln cap="rnd" w="38160">
            <a:solidFill>
              <a:srgbClr val="8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99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240" y="9126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循环码是线性分组码中的一个重要子类。它有严格的代数结构，用代数方法可以找出许多编码效率高、检错纠错能力强的循环码来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循环码可用多项式来分析，多项式的系数是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或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以表示码组的多项式叫码多项式，记作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2800" spc="-1" strike="noStrike" baseline="-30000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zh-CN" sz="2800" spc="-1" strike="noStrike" baseline="-30000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Arial"/>
              </a:rPr>
              <a:t>-1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zh-CN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zh-CN" sz="2800" spc="-1" strike="noStrike" baseline="-30000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Arial"/>
              </a:rPr>
              <a:t>-2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zh-CN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Arial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240" y="9126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2.7.1  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循环码的基本概念和特点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99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循环码是线性分组码，并且任一码字的每次循环移位（左移或右移）得到的仍是一个码字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zh-CN" sz="2000" spc="-1" strike="noStrike" baseline="-30000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Arial"/>
              </a:rPr>
              <a:t>-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zh-CN" sz="2000" spc="-1" strike="noStrike" baseline="-30000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Arial"/>
              </a:rPr>
              <a:t>-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…，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是一个循环码字，则循环左移一位得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Arial"/>
              </a:rPr>
              <a:t>n-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…，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Arial"/>
              </a:rPr>
              <a:t>n-1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也是一个码字，再移位仍是一个码字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现在来看看循环移位的数学表达方法，一个（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循环码字循环移位一次，是原来的码多项式乘以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证明如下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一个码字可用码多项式表示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2000" spc="-1" strike="noStrike" baseline="-30000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zh-CN" sz="2000" spc="-1" strike="noStrike" baseline="-30000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Arial"/>
              </a:rPr>
              <a:t>-1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zh-CN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zh-CN" sz="2000" spc="-1" strike="noStrike" baseline="-30000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Arial"/>
              </a:rPr>
              <a:t>-2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zh-CN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zh-CN" sz="2000" spc="-1" strike="noStrike" baseline="-30000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Arial"/>
              </a:rPr>
              <a:t>-1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zh-CN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zh-CN" sz="2000" spc="-1" strike="noStrike" baseline="-30000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Arial"/>
              </a:rPr>
              <a:t>-2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zh-CN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9126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 Black"/>
              </a:rPr>
              <a:t>2.1.1  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电力调度自动化系统的基本组成</a:t>
            </a:r>
            <a:r>
              <a:rPr b="1" lang="zh-CN" sz="3200" spc="-1" strike="noStrike">
                <a:solidFill>
                  <a:srgbClr val="009900"/>
                </a:solidFill>
                <a:latin typeface="Arial Black"/>
              </a:rPr>
              <a:t> </a:t>
            </a:r>
            <a:endParaRPr b="1" lang="en-US" sz="3200" spc="-1" strike="noStrike">
              <a:solidFill>
                <a:srgbClr val="0099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1760" y="20574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采集电力系统信息并将其传送到调度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对远动装置传来的信息进行实时处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做出调度决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将调度决策送到电力系统去执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905120" y="1371600"/>
          <a:ext cx="4800600" cy="301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371600"/>
                    <a:ext cx="4800600" cy="30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2831040" y="4952880"/>
            <a:ext cx="31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2.7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线性分组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685200" y="6324480"/>
            <a:ext cx="790200" cy="398880"/>
          </a:xfrm>
          <a:prstGeom prst="rect">
            <a:avLst/>
          </a:prstGeom>
          <a:noFill/>
          <a:ln cap="rnd" w="38160">
            <a:solidFill>
              <a:srgbClr val="8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99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240" y="9126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2.7.2  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循环码的编码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99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2800" spc="-1" strike="noStrike" baseline="-30000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2800" spc="-1" strike="noStrike" baseline="-30000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2800" spc="-1" strike="noStrike" baseline="-30000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-3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式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-3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可以编成循环码，但它生成的不是前段为信息位、后段为监督位的系统码格式。例如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2800" spc="-1" strike="noStrike" baseline="-30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2800" spc="-1" strike="noStrike" baseline="-30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成的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码码字为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2800" spc="-1" strike="noStrike" baseline="-30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7238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可将式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-3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理解为：“任一循环码码字都是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2000" spc="-1" strike="noStrike" baseline="-30000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倍式”。把式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-3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改变一下形或就能编出系统码格式来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对（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循环码，编码步骤如下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将待编信息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2000" spc="-1" strike="noStrike" baseline="-30000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乘以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zh-CN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i="1" lang="zh-CN" sz="2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得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zh-CN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i="1" lang="zh-CN" sz="2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2000" spc="-1" strike="noStrike" baseline="-30000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将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zh-CN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i="1" lang="zh-CN" sz="2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2000" spc="-1" strike="noStrike" baseline="-30000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除以生成多项式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2000" spc="-1" strike="noStrike" baseline="-30000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得余式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2000" spc="-1" strike="noStrike" baseline="-30000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记作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zh-CN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i="1" lang="zh-CN" sz="2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2000" spc="-1" strike="noStrike" baseline="-30000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2000" spc="-1" strike="noStrike" baseline="-30000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2000" spc="-1" strike="noStrike" baseline="-30000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2000" spc="-1" strike="noStrike" baseline="-30000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-3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zh-CN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i="1" lang="zh-CN" sz="2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2000" spc="-1" strike="noStrike" baseline="-30000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2000" spc="-1" strike="noStrike" baseline="-30000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2000" spc="-1" strike="noStrike" baseline="-30000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2000" spc="-1" strike="noStrike" baseline="-30000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-39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上式说明：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zh-CN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i="1" lang="zh-CN" sz="2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2000" spc="-1" strike="noStrike" baseline="-30000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2000" spc="-1" strike="noStrike" baseline="-30000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2000" spc="-1" strike="noStrike" baseline="-30000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倍式，所以它是码字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2000" spc="-1" strike="noStrike" baseline="-30000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即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2000" spc="-1" strike="noStrike" baseline="-30000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zh-CN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i="1" lang="zh-CN" sz="2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2000" spc="-1" strike="noStrike" baseline="-30000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2000" spc="-1" strike="noStrike" baseline="-30000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-4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685200" y="6324480"/>
            <a:ext cx="790200" cy="398880"/>
          </a:xfrm>
          <a:prstGeom prst="rect">
            <a:avLst/>
          </a:prstGeom>
          <a:noFill/>
          <a:ln cap="rnd" w="38160">
            <a:solidFill>
              <a:srgbClr val="8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99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1217160"/>
            <a:ext cx="7467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HANK YOU VERY MUCH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！</a:t>
            </a:r>
            <a:endParaRPr b="1" lang="en-US" sz="4000" spc="-1" strike="noStrike">
              <a:solidFill>
                <a:srgbClr val="0099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80520" y="2362320"/>
            <a:ext cx="7543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本章到此结束，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谢谢您的光临！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786720" y="6324480"/>
            <a:ext cx="1095120" cy="398880"/>
          </a:xfrm>
          <a:prstGeom prst="rect">
            <a:avLst/>
          </a:prstGeom>
          <a:noFill/>
          <a:ln cap="rnd" w="38160">
            <a:solidFill>
              <a:srgbClr val="8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99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" action="ppaction://hlinkshowjump?jump=endshow"/>
          </p:cNvPr>
          <p:cNvSpPr/>
          <p:nvPr/>
        </p:nvSpPr>
        <p:spPr>
          <a:xfrm>
            <a:off x="5024520" y="6346800"/>
            <a:ext cx="790200" cy="398880"/>
          </a:xfrm>
          <a:prstGeom prst="rect">
            <a:avLst/>
          </a:prstGeom>
          <a:noFill/>
          <a:ln cap="rnd" w="38160">
            <a:solidFill>
              <a:srgbClr val="8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9900"/>
                </a:solidFill>
                <a:latin typeface="Times New Roman"/>
                <a:ea typeface="隶书"/>
              </a:rPr>
              <a:t>结束放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9126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553080" cy="3527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026160" y="5410080"/>
            <a:ext cx="33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度自动化系统的基本构成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685200" y="6324480"/>
            <a:ext cx="790200" cy="398880"/>
          </a:xfrm>
          <a:prstGeom prst="rect">
            <a:avLst/>
          </a:prstGeom>
          <a:noFill/>
          <a:ln cap="rnd" w="38160">
            <a:solidFill>
              <a:srgbClr val="8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99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9126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 Black"/>
              </a:rPr>
              <a:t>2.1.2  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数据传输系统的构成</a:t>
            </a:r>
            <a:r>
              <a:rPr b="1" lang="zh-CN" sz="3200" spc="-1" strike="noStrike">
                <a:solidFill>
                  <a:srgbClr val="009900"/>
                </a:solidFill>
                <a:latin typeface="Arial Black"/>
              </a:rPr>
              <a:t> </a:t>
            </a:r>
            <a:endParaRPr b="1" lang="en-US" sz="3200" spc="-1" strike="noStrike">
              <a:solidFill>
                <a:srgbClr val="0099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据传输的目的就是为了传送数字信息（单向或双向），因此，一个数据传输系统的组成可概括如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3809880"/>
            <a:ext cx="7391520" cy="12733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900520" y="537516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传输系统的组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685200" y="6324480"/>
            <a:ext cx="790200" cy="398880"/>
          </a:xfrm>
          <a:prstGeom prst="rect">
            <a:avLst/>
          </a:prstGeom>
          <a:noFill/>
          <a:ln cap="rnd" w="38160">
            <a:solidFill>
              <a:srgbClr val="8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99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9126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 Black"/>
              </a:rPr>
              <a:t>2.2  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信息量及数字信号传输要求</a:t>
            </a:r>
            <a:r>
              <a:rPr b="1" lang="zh-CN" sz="3200" spc="-1" strike="noStrike">
                <a:solidFill>
                  <a:srgbClr val="009900"/>
                </a:solidFill>
                <a:latin typeface="Arial Black"/>
              </a:rPr>
              <a:t> </a:t>
            </a:r>
            <a:endParaRPr b="1" lang="en-US" sz="3200" spc="-1" strike="noStrike">
              <a:solidFill>
                <a:srgbClr val="0099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信息量的计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Ⅰ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1" i="1" lang="zh-CN" sz="2000" spc="-1" strike="noStrike" baseline="-30000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-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式中：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事件发生的概率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Ⅰ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该事件发生时所得的信息量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在式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-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中，对数的底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取决于量度信息的单位。若取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为底，信息量的单位是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bi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比特）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Ⅰ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-log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bi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-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本节只讨论各种事件都是等概率出现的情况。最简单事件（或消息）只有两种状态，例如开关的消息就是“合闸”或“分闸”。这种最简单的消息所含的信息量的计算公式为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Ⅰ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-log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bi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6786720" y="6324480"/>
            <a:ext cx="1095120" cy="398880"/>
          </a:xfrm>
          <a:prstGeom prst="rect">
            <a:avLst/>
          </a:prstGeom>
          <a:noFill/>
          <a:ln cap="rnd" w="38160">
            <a:solidFill>
              <a:srgbClr val="8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99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9126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信号有两种主要类型——随时间连续变化的模拟信号和随时间不连续变化的离散信号。模拟信号通常是单一正弦波和正弦波的组合，如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所示。离散信号是由在时间上离散出现的脉冲组成，脉冲可以是单个的固定的周期出现，如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所示，也可以是以码组的形式出现，如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所示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9126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7619760" cy="1789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199320" y="487692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3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信号波形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8T11:42:57Z</dcterms:created>
  <dc:creator>新人电脑</dc:creator>
  <dc:description/>
  <dc:language>en-US</dc:language>
  <cp:lastModifiedBy>li</cp:lastModifiedBy>
  <dcterms:modified xsi:type="dcterms:W3CDTF">2002-02-01T04:12:59Z</dcterms:modified>
  <cp:revision>34</cp:revision>
  <dc:subject/>
  <dc:title>第2章  远动信息与编码的基本理论</dc:title>
</cp:coreProperties>
</file>